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DC53-39B6-4B6A-B1BB-7982192D9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D066-CA06-4487-A68E-FF9EC146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0D46-3A19-407C-B210-A5094E1CB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73B1-F91E-4856-9884-B49765DED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16A7-5FCA-4589-AD6F-C628E2B4C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978F-B71D-4DC0-B00C-C6D40271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35D5-2688-4274-8308-A7202C04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FEB9-B765-4633-B8C2-B4F5B48F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5B86-8FCE-437D-8534-42C6EEB1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A9BD-574F-46F1-B6B3-C9C41305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44EA-6009-4C49-8AB4-C7325A93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D2FB-CDEF-4EAF-B4E4-51207457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8825-997B-4AAE-9127-282BC0B3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299C-1F81-49FD-B8CA-91FBBB0E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579A-E021-47B7-A66F-08CADEC7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962C-C405-4246-8841-9FEA2E57D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1A87-F6C6-43F0-B6F6-1027D53DC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4FB6-E71A-46C1-9D92-BF05735F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262E-E630-491E-8565-3EEBD87C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6679-A2DE-4096-A2C4-21FC5779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FF80-88EA-446B-BBAD-CA81A400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0171-9039-4F5A-9C6E-EC60BF68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04C7-52C2-4AAD-9A9B-6B94B015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1AA8-AF1A-4B40-B9E6-8A7AD7A4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5670-7F99-415D-B995-464FEFBBD0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3915-BC36-4831-AE31-C29A5D6B9C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on nom est:  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 histoire s’intitule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Introduction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95280" y="2276640"/>
            <a:ext cx="8353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Développemen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4360" y="2420640"/>
            <a:ext cx="7632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Développement (suite)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8064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Développement (suite)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onclusion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68000" y="2276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5:06:15Z</dcterms:created>
  <dc:creator>Marie-Pier</dc:creator>
  <dc:description/>
  <dc:language>en-US</dc:language>
  <cp:lastModifiedBy>Marie-Pier</cp:lastModifiedBy>
  <dcterms:modified xsi:type="dcterms:W3CDTF">2007-11-19T16:28:06Z</dcterms:modified>
  <cp:revision>11</cp:revision>
  <dc:subject/>
  <dc:title>Le trio Parfait</dc:title>
</cp:coreProperties>
</file>